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10.wmf" ContentType="image/x-wmf"/>
  <Override PartName="/ppt/media/image3.gif" ContentType="image/gif"/>
  <Override PartName="/ppt/media/image4.gif" ContentType="image/gif"/>
  <Override PartName="/ppt/media/image5.gif" ContentType="image/gif"/>
  <Override PartName="/ppt/media/image8.wmf" ContentType="image/x-wmf"/>
  <Override PartName="/ppt/media/image6.gif" ContentType="image/gif"/>
  <Override PartName="/ppt/media/image7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27A9-3065-4818-A09D-8449DD510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11DD-18AA-443D-8784-7B4F0D6D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42F9-D26A-45B2-9CE0-C87067BCC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63D6-4696-490B-A9AA-76FB8E095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8BE0-C76F-418C-B574-3757D856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17C2-C195-47E4-8BC1-56325094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3F38-2AE0-409B-A89D-21F8349B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3F25-4207-4FA0-9814-C97FD1D6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F468-4AE0-4666-80B5-DDB0B994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5599-1CBC-4A8B-9E67-89FB6598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2698-0075-43EC-9EEF-B632D21A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84C5-136D-4C9B-8EE8-EEBB7906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4A7B-0508-4EE9-A36B-B123BCD05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KOMBINATORIK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3440" y="1052640"/>
            <a:ext cx="739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MINIKABAROTO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76720" y="2637000"/>
            <a:ext cx="2344680" cy="2952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58880" y="5877000"/>
            <a:ext cx="33400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udmila Cigler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Gymnázium Voděradská, Praha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.ciglerov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@cmail.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25080" y="0"/>
            <a:ext cx="168480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íklad 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8560" y="660240"/>
            <a:ext cx="586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Určete počet všech anagramů slov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79440" y="1452600"/>
            <a:ext cx="189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a) OKO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7760" y="2924280"/>
            <a:ext cx="289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b)MATEMAT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0840" y="4941720"/>
            <a:ext cx="355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c)KOMBINATOR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659640" y="1773360"/>
            <a:ext cx="1904760" cy="25192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054680" y="2100240"/>
            <a:ext cx="577080" cy="5205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32200" y="4076640"/>
            <a:ext cx="2179800" cy="5205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51 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39400" y="5773680"/>
            <a:ext cx="2161800" cy="5205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89 188 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25080" y="0"/>
            <a:ext cx="168480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íklad 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79440" y="588960"/>
            <a:ext cx="783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Určete počet všech 5 ciferných číse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které lze sestavit z číslic 5 a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Má-li se v každém z nich číslice 5 vyskytov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2000" y="2276640"/>
            <a:ext cx="24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a) právě 3 krá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4720" y="3573360"/>
            <a:ext cx="279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b) nejvýše 3 krá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2000" y="5084640"/>
            <a:ext cx="281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c) alespoň 3 krá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02320" y="2678040"/>
            <a:ext cx="5770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723200" y="4294080"/>
            <a:ext cx="5770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23200" y="5589720"/>
            <a:ext cx="5770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25080" y="0"/>
            <a:ext cx="168480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íklad 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48200" y="804960"/>
            <a:ext cx="8357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99"/>
                </a:solidFill>
                <a:latin typeface="Arial"/>
              </a:rPr>
              <a:t>Poznáte zprávu G.I.Caesara zaslanou do Ří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99"/>
                </a:solidFill>
                <a:latin typeface="Arial"/>
              </a:rPr>
              <a:t>po vítězství nad pontským králem Farnatem ukry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99"/>
                </a:solidFill>
                <a:latin typeface="Arial"/>
              </a:rPr>
              <a:t>v anagramu  CDEIIIIINVV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269960" y="4621320"/>
            <a:ext cx="2785320" cy="5205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VENI, VIDI, V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91920" y="5516640"/>
            <a:ext cx="1468440" cy="5205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665 2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41440" y="2205000"/>
            <a:ext cx="684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EZKÝ CELÝ DEN!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2720" y="2276640"/>
            <a:ext cx="684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ÝK NCHELÝ EDZE!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700360" y="3456000"/>
            <a:ext cx="324000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80360" y="0"/>
            <a:ext cx="86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V turistickém oddíle je 40 lidí.Vybírám z nich 5 lidí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0" y="404640"/>
            <a:ext cx="374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teří se zúčastn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ýběrového zájezd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00720" y="2060640"/>
            <a:ext cx="0" cy="4465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0" y="2133720"/>
            <a:ext cx="14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Vari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2232360" cy="1033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720680" y="2060640"/>
            <a:ext cx="209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66"/>
                </a:solidFill>
                <a:uFillTx/>
                <a:latin typeface="Arial"/>
              </a:rPr>
              <a:t>Kombin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164360" y="1557360"/>
            <a:ext cx="1268280" cy="1268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0" y="2637000"/>
            <a:ext cx="384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teří se zúčastn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ýběrového zájezd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76280"/>
            <a:ext cx="336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teří budou tvoř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dení oddíl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3716280"/>
            <a:ext cx="336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teří budou tvoř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dení oddíl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76280"/>
            <a:ext cx="422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teří budou vykonáv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ět různých funkc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0" y="2852640"/>
            <a:ext cx="412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teří budou vykonáv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ět různých funkc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-360" y="476280"/>
            <a:ext cx="396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teří si sedno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očíslovanou lavic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 vlaku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360" y="3860640"/>
            <a:ext cx="396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teří si sedno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očíslovanou lavic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 vlaku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280" y="549360"/>
            <a:ext cx="293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teří si sedno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 stol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360" y="5084640"/>
            <a:ext cx="293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teří si sedno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 stol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55640" y="494172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8337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rovině je dán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ůzných bodů, žádné tři nelež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jedné přímce. Určete počet všech různých……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teré určuj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08720" y="404640"/>
            <a:ext cx="1440000" cy="5191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371628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58920" y="429264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26920" y="278136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580536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4437000"/>
            <a:ext cx="215640" cy="216000"/>
          </a:xfrm>
          <a:custGeom>
            <a:avLst/>
            <a:gdLst>
              <a:gd name="textAreaLeft" fmla="*/ 88920 w 215640"/>
              <a:gd name="textAreaRight" fmla="*/ 126720 w 21564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2720" y="5373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7800" y="4221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42900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40" y="4653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32000" y="3573360"/>
            <a:ext cx="35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609300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4360" y="299736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40" y="2708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484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33440" y="21337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2492280"/>
            <a:ext cx="215640" cy="216000"/>
          </a:xfrm>
          <a:custGeom>
            <a:avLst/>
            <a:gdLst>
              <a:gd name="textAreaLeft" fmla="*/ 88920 w 215640"/>
              <a:gd name="textAreaRight" fmla="*/ 126720 w 21564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6000" y="220500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162864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16000" y="3284640"/>
            <a:ext cx="216000" cy="21564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5640"/>
              <a:gd name="textAreaBottom" fmla="*/ 126720 h 21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20200" y="1308240"/>
            <a:ext cx="174420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úseč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41800" y="2060640"/>
            <a:ext cx="14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Vari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708360" y="1773360"/>
            <a:ext cx="2232000" cy="103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796000" y="2205000"/>
            <a:ext cx="0" cy="431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65280" y="2131920"/>
            <a:ext cx="209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66"/>
                </a:solidFill>
                <a:uFillTx/>
                <a:latin typeface="Arial"/>
              </a:rPr>
              <a:t>Kombin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875720" y="1628640"/>
            <a:ext cx="1268280" cy="1268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39640" y="1700280"/>
            <a:ext cx="719280" cy="172872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28720" y="2852640"/>
            <a:ext cx="174420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úseč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97080" y="981000"/>
            <a:ext cx="3865680" cy="947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:vekto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rientovaných úseče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65080" y="2637000"/>
            <a:ext cx="3865680" cy="947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:vekto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rientovaných úseče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042920" y="4365720"/>
            <a:ext cx="360360" cy="1511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042560" y="4365720"/>
            <a:ext cx="360360" cy="1582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70520" y="981000"/>
            <a:ext cx="237816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:trojúhel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58520" y="3716280"/>
            <a:ext cx="237816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:trojúhel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24000" y="4508640"/>
            <a:ext cx="576000" cy="5760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95280" y="3789360"/>
            <a:ext cx="144360" cy="719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3789360"/>
            <a:ext cx="287280" cy="12240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97080" y="981000"/>
            <a:ext cx="2951280" cy="13737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: lomených ča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teré dostane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jením 3 bo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3933720"/>
            <a:ext cx="2951280" cy="13737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: lomených ča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teré dostane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jením 3 bo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899640" y="5084640"/>
            <a:ext cx="142920" cy="86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900000" y="4365360"/>
            <a:ext cx="503280" cy="71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042560" y="4437000"/>
            <a:ext cx="360360" cy="151128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899640" y="5013360"/>
            <a:ext cx="14292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020000" y="4724280"/>
            <a:ext cx="1944720" cy="1812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25080" y="0"/>
            <a:ext cx="168480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íklad 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2360" y="907920"/>
            <a:ext cx="8638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soutěži sazky se tipují výsledky 13 zápasů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ď vyhrají hosté nebo domácí anebo bude výsled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ozhodný.Kolik tipů je v ní celkem možných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0" y="2708280"/>
          <a:ext cx="9144000" cy="1440000"/>
        </p:xfrm>
        <a:graphic>
          <a:graphicData uri="http://schemas.openxmlformats.org/drawingml/2006/table">
            <a:tbl>
              <a:tblPr/>
              <a:tblGrid>
                <a:gridCol w="685800"/>
                <a:gridCol w="687240"/>
                <a:gridCol w="689040"/>
                <a:gridCol w="709560"/>
                <a:gridCol w="665280"/>
                <a:gridCol w="684360"/>
                <a:gridCol w="690480"/>
                <a:gridCol w="614160"/>
                <a:gridCol w="650880"/>
                <a:gridCol w="722520"/>
                <a:gridCol w="723960"/>
                <a:gridCol w="723960"/>
                <a:gridCol w="89676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0" y="2708280"/>
          <a:ext cx="9144000" cy="1440000"/>
        </p:xfrm>
        <a:graphic>
          <a:graphicData uri="http://schemas.openxmlformats.org/drawingml/2006/table">
            <a:tbl>
              <a:tblPr/>
              <a:tblGrid>
                <a:gridCol w="685800"/>
                <a:gridCol w="687240"/>
                <a:gridCol w="689040"/>
                <a:gridCol w="709560"/>
                <a:gridCol w="665280"/>
                <a:gridCol w="684360"/>
                <a:gridCol w="690480"/>
                <a:gridCol w="614160"/>
                <a:gridCol w="650880"/>
                <a:gridCol w="722520"/>
                <a:gridCol w="723960"/>
                <a:gridCol w="723960"/>
                <a:gridCol w="89676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3112200" y="5700600"/>
            <a:ext cx="182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Výsledek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932360" y="5661000"/>
                <a:ext cx="49068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25080" y="0"/>
            <a:ext cx="168480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íklad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5120" y="588960"/>
            <a:ext cx="8277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lik je všech možných státních poznávací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aček aut  sestavených ze tří písmen abece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až Z ( 22 písmen), za nimiž následují čtyři čísl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až 9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48200" y="33242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16360" y="2060640"/>
            <a:ext cx="28814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HA 36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16920" y="4836960"/>
            <a:ext cx="192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Výsledek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364000" y="4724280"/>
                <a:ext cx="148464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25080" y="0"/>
            <a:ext cx="168480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íklad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9480" y="660240"/>
            <a:ext cx="812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seřaďovacím nádraží je 6 cisternových 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otevřených a 12 uzavřených nákladních vagon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0000" y="1628640"/>
            <a:ext cx="788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Kolik různých vlakových souprav o 6 vagon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nich lze sestav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3429000"/>
            <a:ext cx="788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Kolik různých vlakových souprav o 8 vagon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nich lze sestav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12200" y="2676600"/>
            <a:ext cx="182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Výsledek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716360" y="2565360"/>
                <a:ext cx="5158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3112200" y="4908600"/>
            <a:ext cx="192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Výsledek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843440" y="4992840"/>
                <a:ext cx="18320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6680" y="189000"/>
            <a:ext cx="446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ermutace s opakování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080" y="765000"/>
            <a:ext cx="776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gramy – seskupení písmen z určitého slo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různém pořa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6680" y="1700280"/>
            <a:ext cx="595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00"/>
                </a:solidFill>
                <a:latin typeface="Arial"/>
              </a:rPr>
              <a:t>Např : CHOSTRYL, ÁAOKTV, HO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20680" y="2133720"/>
            <a:ext cx="29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Počet anagram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2160" y="285264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06160" y="2781360"/>
            <a:ext cx="98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3573360"/>
            <a:ext cx="95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42160" y="429264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2160" y="501336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S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2160" y="566100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2160" y="63388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06160" y="3573360"/>
            <a:ext cx="98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34880" y="4292640"/>
            <a:ext cx="98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443640" y="2492280"/>
            <a:ext cx="1297080" cy="1027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619280" y="2421000"/>
            <a:ext cx="12063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240" y="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KO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47080" y="12600"/>
            <a:ext cx="11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PR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1440" y="47628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KNO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1440" y="98100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KNĚ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81440" y="148428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KOĚ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1440" y="191628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KĚ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8880" y="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NKO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05800" y="4762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NKĚ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05800" y="98100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NOK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78880" y="14842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NOĚ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3080" y="242100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KĚ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6160" y="357336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OK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6160" y="407664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OKĚ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78880" y="19162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NĚ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78880" y="242100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NĚ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0160" y="357336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ĚK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0160" y="407664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Ě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6160" y="450864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ONĚ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6160" y="501336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ONK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6160" y="55897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OĚK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6160" y="609300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OĚ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50160" y="450864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ĚO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21800" y="508464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ĚOK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21800" y="558972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ĚN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21800" y="609300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ĚN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700360" y="0"/>
            <a:ext cx="2592360" cy="16444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367600" y="83664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P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67600" y="14842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R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39240" y="220500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R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740640" y="0"/>
            <a:ext cx="240336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50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450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500"/>
                            </p:stCondLst>
                            <p:childTnLst>
                              <p:par>
                                <p:cTn id="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6000"/>
                            </p:stCondLst>
                            <p:childTnLst>
                              <p:par>
                                <p:cTn id="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6500"/>
                            </p:stCondLst>
                            <p:childTnLst>
                              <p:par>
                                <p:cTn id="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7000"/>
                            </p:stCondLst>
                            <p:childTnLst>
                              <p:par>
                                <p:cTn id="3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7500"/>
                            </p:stCondLst>
                            <p:childTnLst>
                              <p:par>
                                <p:cTn id="3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8000"/>
                            </p:stCondLst>
                            <p:childTnLst>
                              <p:par>
                                <p:cTn id="3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8500"/>
                            </p:stCondLst>
                            <p:childTnLst>
                              <p:par>
                                <p:cTn id="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9000"/>
                            </p:stCondLst>
                            <p:childTnLst>
                              <p:par>
                                <p:cTn id="3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9500"/>
                            </p:stCondLst>
                            <p:childTnLst>
                              <p:par>
                                <p:cTn id="3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100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539640"/>
            <a:ext cx="615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ermutace s opakováním z </a:t>
            </a:r>
            <a:r>
              <a:rPr b="1" i="1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n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rv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6040" y="1236600"/>
            <a:ext cx="82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 uspořádaná k-tice sestavená z těchto prvků tak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že každý se v ní vyskytuje alespoň jedn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19480" y="2244600"/>
            <a:ext cx="667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 počet permutací s opakováním platí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701640" y="2997360"/>
                <a:ext cx="716436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/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  <m:r>
                          <m:t xml:space="preserve">!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!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539640" y="4178160"/>
                <a:ext cx="520920" cy="267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1095480" y="4260960"/>
            <a:ext cx="48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počet opakování 1. prv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87280" y="5013360"/>
            <a:ext cx="48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počet opakování 2. prv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16000" y="6338880"/>
            <a:ext cx="48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počet opakování n. prv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4T16:29:25Z</dcterms:created>
  <dc:creator>Ciglerovi</dc:creator>
  <dc:description/>
  <dc:language>en-US</dc:language>
  <cp:lastModifiedBy>lida</cp:lastModifiedBy>
  <dcterms:modified xsi:type="dcterms:W3CDTF">2007-04-21T07:39:17Z</dcterms:modified>
  <cp:revision>16</cp:revision>
  <dc:subject/>
  <dc:title>KOMBINATORIKA</dc:title>
</cp:coreProperties>
</file>